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9742-D338-4889-92BB-A65EAC537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FBE2-C34E-408B-8BD7-B8346C24A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60A0-B411-443A-A818-A7B9471A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7429-C58B-4178-8333-9353CD2A6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3"/>
          <p:cNvSpPr/>
          <p:nvPr/>
        </p:nvSpPr>
        <p:spPr>
          <a:xfrm>
            <a:off x="3886200" y="6248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24"/>
          <p:cNvSpPr/>
          <p:nvPr/>
        </p:nvSpPr>
        <p:spPr>
          <a:xfrm>
            <a:off x="3962520" y="6248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228600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5"/>
          <p:cNvSpPr/>
          <p:nvPr/>
        </p:nvSpPr>
        <p:spPr>
          <a:xfrm>
            <a:off x="2362320" y="5867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>
            <a:hlinkClick r:id="" action="ppaction://hlinkshowjump?jump=firstslide"/>
          </p:cNvPr>
          <p:cNvSpPr/>
          <p:nvPr/>
        </p:nvSpPr>
        <p:spPr>
          <a:xfrm>
            <a:off x="5562720" y="6248520"/>
            <a:ext cx="1447560" cy="45720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52" h="21600">
                <a:moveTo>
                  <a:pt x="0" y="0"/>
                </a:moveTo>
                <a:lnTo>
                  <a:pt x="68352" y="0"/>
                </a:lnTo>
                <a:lnTo>
                  <a:pt x="68352" y="21600"/>
                </a:lnTo>
                <a:lnTo>
                  <a:pt x="0" y="21600"/>
                </a:lnTo>
                <a:close/>
              </a:path>
              <a:path fill="lightenLess" w="68352" h="21600">
                <a:moveTo>
                  <a:pt x="0" y="0"/>
                </a:moveTo>
                <a:lnTo>
                  <a:pt x="68352" y="0"/>
                </a:lnTo>
                <a:lnTo>
                  <a:pt x="66952" y="1400"/>
                </a:lnTo>
                <a:lnTo>
                  <a:pt x="1400" y="1400"/>
                </a:lnTo>
                <a:close/>
              </a:path>
              <a:path fill="darken" w="68352" h="21600">
                <a:moveTo>
                  <a:pt x="68352" y="0"/>
                </a:moveTo>
                <a:lnTo>
                  <a:pt x="68352" y="21600"/>
                </a:lnTo>
                <a:lnTo>
                  <a:pt x="66952" y="20200"/>
                </a:lnTo>
                <a:lnTo>
                  <a:pt x="66952" y="1400"/>
                </a:lnTo>
                <a:close/>
              </a:path>
              <a:path fill="darkenLess" w="68352" h="21600">
                <a:moveTo>
                  <a:pt x="68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52" y="20200"/>
                </a:lnTo>
                <a:close/>
              </a:path>
              <a:path fill="lighten" w="68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352" h="21600">
                <a:moveTo>
                  <a:pt x="34176" y="3837"/>
                </a:moveTo>
                <a:lnTo>
                  <a:pt x="36752" y="6448"/>
                </a:ln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lnTo>
                  <a:pt x="41139" y="10800"/>
                </a:lnTo>
                <a:lnTo>
                  <a:pt x="39485" y="10800"/>
                </a:lnTo>
                <a:lnTo>
                  <a:pt x="39485" y="17989"/>
                </a:lnTo>
                <a:lnTo>
                  <a:pt x="28867" y="17989"/>
                </a:lnTo>
                <a:lnTo>
                  <a:pt x="28867" y="10800"/>
                </a:lnTo>
                <a:lnTo>
                  <a:pt x="27213" y="10800"/>
                </a:lnTo>
                <a:close/>
              </a:path>
              <a:path fill="darkenLess" w="68352" h="21600">
                <a:moveTo>
                  <a:pt x="36752" y="6448"/>
                </a:moveTo>
                <a:lnTo>
                  <a:pt x="36752" y="4707"/>
                </a:lnTo>
                <a:lnTo>
                  <a:pt x="38528" y="4707"/>
                </a:lnTo>
                <a:lnTo>
                  <a:pt x="38528" y="8224"/>
                </a:lnTo>
                <a:close/>
              </a:path>
              <a:path fill="darkenLess" w="68352" h="21600">
                <a:moveTo>
                  <a:pt x="33253" y="14299"/>
                </a:moveTo>
                <a:lnTo>
                  <a:pt x="35099" y="14299"/>
                </a:lnTo>
                <a:lnTo>
                  <a:pt x="35099" y="17989"/>
                </a:lnTo>
                <a:lnTo>
                  <a:pt x="39485" y="17989"/>
                </a:lnTo>
                <a:lnTo>
                  <a:pt x="39485" y="10800"/>
                </a:lnTo>
                <a:lnTo>
                  <a:pt x="28867" y="10800"/>
                </a:lnTo>
                <a:lnTo>
                  <a:pt x="28867" y="17989"/>
                </a:lnTo>
                <a:lnTo>
                  <a:pt x="33253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3581280" y="6095880"/>
            <a:ext cx="213372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76320"/>
            <a:ext cx="7772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ience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04920" y="16509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04920" y="24638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04920" y="332748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416556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04920" y="5003640"/>
            <a:ext cx="1600200" cy="70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057400" y="16509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057400" y="24638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2057400" y="332748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057400" y="416556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2057400" y="5003640"/>
            <a:ext cx="1600200" cy="7034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3809880" y="16509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3809880" y="24638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3809880" y="332748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809880" y="416556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09880" y="5003640"/>
            <a:ext cx="1600200" cy="70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562720" y="16509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562720" y="24638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562720" y="332748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562720" y="416556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5562720" y="5003640"/>
            <a:ext cx="160020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7315200" y="16509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7315200" y="24638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7315200" y="332748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7315200" y="416556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7315200" y="5003640"/>
            <a:ext cx="1600200" cy="7034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304920" y="838080"/>
            <a:ext cx="16002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2057400" y="838080"/>
            <a:ext cx="1600200" cy="337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3809880" y="838080"/>
            <a:ext cx="160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5562720" y="838080"/>
            <a:ext cx="160020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th/Space 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315200" y="838080"/>
            <a:ext cx="1600200" cy="3373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5"/>
          <p:cNvSpPr/>
          <p:nvPr/>
        </p:nvSpPr>
        <p:spPr>
          <a:xfrm>
            <a:off x="7924680" y="763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35812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parti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1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Van der Walls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E=h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pac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inverse squar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kg 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ccelerating a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ight-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Alpha Centu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38080" y="1752480"/>
            <a:ext cx="754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) Save a duplicate of this temp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 Enter all answers and questions in the normal view.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hange the category headings in the normal view (view/norm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) View as a slidesh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5) Use the home red button after each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">
            <a:hlinkClick r:id="" action="ppaction://hlinkshowjump?jump=firstslide"/>
          </p:cNvPr>
          <p:cNvSpPr/>
          <p:nvPr/>
        </p:nvSpPr>
        <p:spPr>
          <a:xfrm>
            <a:off x="1066680" y="4343400"/>
            <a:ext cx="1067040" cy="457200"/>
          </a:xfrm>
          <a:custGeom>
            <a:avLst/>
            <a:gdLst>
              <a:gd name="textAreaLeft" fmla="*/ 29520 w 1067040"/>
              <a:gd name="textAreaRight" fmla="*/ 1037520 w 10670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89" h="21600">
                <a:moveTo>
                  <a:pt x="0" y="0"/>
                </a:moveTo>
                <a:lnTo>
                  <a:pt x="50389" y="0"/>
                </a:lnTo>
                <a:lnTo>
                  <a:pt x="50389" y="21600"/>
                </a:lnTo>
                <a:lnTo>
                  <a:pt x="0" y="21600"/>
                </a:lnTo>
                <a:close/>
              </a:path>
              <a:path fill="lightenLess" w="50389" h="21600">
                <a:moveTo>
                  <a:pt x="0" y="0"/>
                </a:moveTo>
                <a:lnTo>
                  <a:pt x="50389" y="0"/>
                </a:lnTo>
                <a:lnTo>
                  <a:pt x="48989" y="1400"/>
                </a:lnTo>
                <a:lnTo>
                  <a:pt x="1400" y="1400"/>
                </a:lnTo>
                <a:close/>
              </a:path>
              <a:path fill="darken" w="50389" h="21600">
                <a:moveTo>
                  <a:pt x="50389" y="0"/>
                </a:moveTo>
                <a:lnTo>
                  <a:pt x="50389" y="21600"/>
                </a:lnTo>
                <a:lnTo>
                  <a:pt x="48989" y="20200"/>
                </a:lnTo>
                <a:lnTo>
                  <a:pt x="48989" y="1400"/>
                </a:lnTo>
                <a:close/>
              </a:path>
              <a:path fill="darkenLess" w="50389" h="21600">
                <a:moveTo>
                  <a:pt x="50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89" y="20200"/>
                </a:lnTo>
                <a:close/>
              </a:path>
              <a:path fill="lighten" w="50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89" h="21600">
                <a:moveTo>
                  <a:pt x="25194" y="3837"/>
                </a:moveTo>
                <a:lnTo>
                  <a:pt x="27771" y="6448"/>
                </a:ln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lnTo>
                  <a:pt x="32157" y="10800"/>
                </a:lnTo>
                <a:lnTo>
                  <a:pt x="30504" y="10800"/>
                </a:lnTo>
                <a:lnTo>
                  <a:pt x="30504" y="17989"/>
                </a:lnTo>
                <a:lnTo>
                  <a:pt x="19885" y="17989"/>
                </a:lnTo>
                <a:lnTo>
                  <a:pt x="19885" y="10800"/>
                </a:lnTo>
                <a:lnTo>
                  <a:pt x="18231" y="10800"/>
                </a:lnTo>
                <a:close/>
              </a:path>
              <a:path fill="darkenLess" w="50389" h="21600">
                <a:moveTo>
                  <a:pt x="27771" y="6448"/>
                </a:moveTo>
                <a:lnTo>
                  <a:pt x="27771" y="4707"/>
                </a:lnTo>
                <a:lnTo>
                  <a:pt x="29546" y="4707"/>
                </a:lnTo>
                <a:lnTo>
                  <a:pt x="29546" y="8224"/>
                </a:lnTo>
                <a:close/>
              </a:path>
              <a:path fill="darkenLess" w="50389" h="21600">
                <a:moveTo>
                  <a:pt x="24272" y="14299"/>
                </a:moveTo>
                <a:lnTo>
                  <a:pt x="26117" y="14299"/>
                </a:lnTo>
                <a:lnTo>
                  <a:pt x="26117" y="17989"/>
                </a:lnTo>
                <a:lnTo>
                  <a:pt x="30504" y="17989"/>
                </a:lnTo>
                <a:lnTo>
                  <a:pt x="30504" y="10800"/>
                </a:lnTo>
                <a:lnTo>
                  <a:pt x="19885" y="10800"/>
                </a:lnTo>
                <a:lnTo>
                  <a:pt x="19885" y="17989"/>
                </a:lnTo>
                <a:lnTo>
                  <a:pt x="24272" y="17989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295280" y="640080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Norman Herr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umb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ateritic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uls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ic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trans-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Herpes Zo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LD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Pauli Exclusion Princi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1800" y="2333520"/>
            <a:ext cx="73404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prokary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ESTION: What is an organism wh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DNA is not contained in its nucleu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mutu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gibberell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-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odixative phsophory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cal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-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: double replac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8:19:09Z</dcterms:created>
  <dc:creator>Norman Herr</dc:creator>
  <dc:description/>
  <dc:language>en-US</dc:language>
  <cp:lastModifiedBy>Norman Herr</cp:lastModifiedBy>
  <dcterms:modified xsi:type="dcterms:W3CDTF">2011-10-19T20:53:52Z</dcterms:modified>
  <cp:revision>20</cp:revision>
  <dc:subject/>
  <dc:title>Science Jeopardy</dc:title>
</cp:coreProperties>
</file>